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19.jpeg" ContentType="image/jpeg"/>
  <Override PartName="/ppt/media/image11.png" ContentType="image/pn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57ED-C7E9-4531-ADEA-6BC81F309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ABEC-9970-4933-B293-E242F49F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00C9-1EBA-484A-95AE-85D644513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018A-3155-4F88-BAE8-DDEBA0B70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F19D-48A6-4DAD-B529-3B8435B7C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FD88-1B5F-4E0F-819E-8C2ED9F0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0603-EEE6-4488-A6F9-24745F15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D005-9FBA-4157-A0FA-CEE2914A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CB51-ECE1-4C16-8CB6-E6DBA271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38DA-4B33-4C07-8980-B2E26008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6289-76E1-4A8E-88B0-E2AF0DA4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E91E-EAB9-4D14-9085-3D92307A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A1FC-4908-4ECD-81FC-10C54CB4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9CBC-898A-42BD-A5AE-21130AAB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2B0F-0DC4-47D8-B6D8-91C83C97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0126-D35C-4174-AAFD-D6F1F8029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48F0-A337-4818-A0F2-AD644378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6FF974-DD1D-4C3E-98DE-7A0DAA95E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C93A25-FFF9-476D-8806-7AA5246B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5FE84B-B643-4948-90F3-6DBED4B5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898D71-5D7D-403D-97EC-A76192DB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CEAF59-DA63-41B8-A697-2AEE3589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6F2A-49E7-4BA2-9957-8DA6891A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6FDCE8-241F-4E4A-9F70-5D7C97AC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E9A184-B6DD-478C-B716-DAF5CAE6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A941AD-C36F-487F-8C24-5E7AD5DD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9B2FCA-2D36-4F14-9C16-09C302DD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58D121-07B1-4E96-83E8-D6099D22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9CBCD6-0B06-4716-8378-E1983DBFD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1A7C67-FE11-4B05-882F-A98EAB941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3FFD0-26A2-4BB4-B347-07A111A93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5584A-2111-46C4-884A-CE0FD1E5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7D8DB-C0AF-4C7F-A582-B3A77AC1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227C-AD70-499A-9847-66DC422F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526AD-E2B8-448D-B1E0-47F5D884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4E2D6-6B76-47A5-A0D7-2CDABF2A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6131B-04C7-4A85-8FAB-90900CE2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0CFA7-434D-4726-A7CC-79A8C983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0ED79-83E9-41E7-B839-2D32DCB2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402EC-49C0-419A-851D-38F15073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D6992-5E95-44B4-8C64-EB052287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F00F4-334C-4151-9A17-28B5EA809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4D5A9-AF7C-491E-97E8-909FDE40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A4A7-4034-418D-AE01-48F0CD79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6F8D-1BA6-4C24-BB41-C8960DF2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5580-71F5-4FC5-B65A-F8A3FF61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7208-6059-40C3-A212-117A657B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7DC3-BF13-41C9-B08A-3565FB9A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9f293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9f293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1b587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57360" indent="-246240">
              <a:spcBef>
                <a:spcPts val="300"/>
              </a:spcBef>
              <a:buClr>
                <a:srgbClr val="9f29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22320" indent="-218880">
              <a:spcBef>
                <a:spcPts val="300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179360" indent="-199800">
              <a:spcBef>
                <a:spcPts val="300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1389240" indent="-182880">
              <a:spcBef>
                <a:spcPts val="300"/>
              </a:spcBef>
              <a:buClr>
                <a:srgbClr val="1b587c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f293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f293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2D37-6D94-43C3-A7C9-DD6EAC1B0E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9f293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9f293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9f293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9f293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9f293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1b587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57360" indent="-246240">
              <a:spcBef>
                <a:spcPts val="300"/>
              </a:spcBef>
              <a:buClr>
                <a:srgbClr val="9f29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22320" indent="-218880">
              <a:spcBef>
                <a:spcPts val="300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179360" indent="-199800">
              <a:spcBef>
                <a:spcPts val="300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1389240" indent="-182880">
              <a:spcBef>
                <a:spcPts val="300"/>
              </a:spcBef>
              <a:buClr>
                <a:srgbClr val="1b587c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f293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f293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0D41-12E8-49B2-8629-21A0A4EC08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9f293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9f293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1b587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57360" indent="-246240">
              <a:spcBef>
                <a:spcPts val="300"/>
              </a:spcBef>
              <a:buClr>
                <a:srgbClr val="9f29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22320" indent="-218880">
              <a:spcBef>
                <a:spcPts val="300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179360" indent="-199800">
              <a:spcBef>
                <a:spcPts val="300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1389240" indent="-182880">
              <a:spcBef>
                <a:spcPts val="300"/>
              </a:spcBef>
              <a:buClr>
                <a:srgbClr val="1b587c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f293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f293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3B1D-ADC6-4392-8E06-B773CA1638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9f293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9f293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1b587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57360" indent="-246240">
              <a:spcBef>
                <a:spcPts val="300"/>
              </a:spcBef>
              <a:buClr>
                <a:srgbClr val="9f29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22320" indent="-218880">
              <a:spcBef>
                <a:spcPts val="300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179360" indent="-199800">
              <a:spcBef>
                <a:spcPts val="300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1389240" indent="-182880">
              <a:spcBef>
                <a:spcPts val="300"/>
              </a:spcBef>
              <a:buClr>
                <a:srgbClr val="1b587c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f293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f293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DB74-B93A-4EF2-9DEF-0F6E1F99B5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04 Comptine d'un autre été.mp3" descr=""/>
          <p:cNvPicPr/>
          <p:nvPr/>
        </p:nvPicPr>
        <p:blipFill>
          <a:blip r:embed="rId1"/>
          <a:stretch/>
        </p:blipFill>
        <p:spPr>
          <a:xfrm>
            <a:off x="5435640" y="3860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Japonia – </a:t>
            </a:r>
            <a:r>
              <a:rPr b="0" lang="ro-RO" sz="4400" spc="-1" strike="noStrike">
                <a:solidFill>
                  <a:srgbClr val="ffffff"/>
                </a:solidFill>
                <a:latin typeface="Century Gothic"/>
              </a:rPr>
              <a:t>Ţ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ara </a:t>
            </a:r>
            <a:r>
              <a:rPr b="0" lang="ro-RO" sz="4400" spc="-1" strike="noStrike">
                <a:solidFill>
                  <a:srgbClr val="ffffff"/>
                </a:solidFill>
                <a:latin typeface="Century Gothic"/>
              </a:rPr>
              <a:t>S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oarelui R</a:t>
            </a:r>
            <a:r>
              <a:rPr b="0" lang="ro-RO" sz="4400" spc="-1" strike="noStrike">
                <a:solidFill>
                  <a:srgbClr val="ffffff"/>
                </a:solidFill>
                <a:latin typeface="Century Gothic"/>
              </a:rPr>
              <a:t>ă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sare</a:t>
            </a:r>
            <a:endParaRPr b="0" lang="en-US" sz="44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23232"/>
                </a:solidFill>
                <a:latin typeface="Century Gothic"/>
              </a:rPr>
              <a:t>sau ce înseamnă perseverenţa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 advTm="10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1027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9" descr="Kanako+Murakami+Japan+Figure+Skating+Championships+42kE2UWrA9nl.jpg"/>
          <p:cNvPicPr/>
          <p:nvPr/>
        </p:nvPicPr>
        <p:blipFill>
          <a:blip r:embed="rId1"/>
          <a:stretch/>
        </p:blipFill>
        <p:spPr>
          <a:xfrm>
            <a:off x="5427720" y="692280"/>
            <a:ext cx="3290760" cy="4465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Century Gothic"/>
              </a:rPr>
              <a:t>Kanako Murakami</a:t>
            </a: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254" name="TextBox 3"/>
          <p:cNvSpPr/>
          <p:nvPr/>
        </p:nvSpPr>
        <p:spPr>
          <a:xfrm>
            <a:off x="611280" y="692280"/>
            <a:ext cx="48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ebut la competia seniorilor -  Locul 8,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ampionatul Mondial Moscova, 2011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55" name="Picture 11" descr="2011+World+Figure+Skating+Championships+Day+RUSe13NIULcl.jpg"/>
          <p:cNvPicPr/>
          <p:nvPr/>
        </p:nvPicPr>
        <p:blipFill>
          <a:blip r:embed="rId2"/>
          <a:stretch/>
        </p:blipFill>
        <p:spPr>
          <a:xfrm>
            <a:off x="1116000" y="2146320"/>
            <a:ext cx="3384720" cy="47116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Century Gothic"/>
              </a:rPr>
              <a:t>Shizuka Arakawa</a:t>
            </a: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257" name="TextBox 3"/>
          <p:cNvSpPr/>
          <p:nvPr/>
        </p:nvSpPr>
        <p:spPr>
          <a:xfrm>
            <a:off x="684360" y="6922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edaliata cu Aur la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Jocurile Olimpic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orino, 2006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58" name="Picture 4" descr="Shizuka+Arakawa+Stars+Ice+2010+4N-FHm6HQv0l.jpg"/>
          <p:cNvPicPr/>
          <p:nvPr/>
        </p:nvPicPr>
        <p:blipFill>
          <a:blip r:embed="rId1"/>
          <a:stretch/>
        </p:blipFill>
        <p:spPr>
          <a:xfrm>
            <a:off x="250920" y="2997360"/>
            <a:ext cx="4897440" cy="3576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59" name="Picture 6" descr="Festa+On+Ice+2009+3kleH332Yy5l.jpg"/>
          <p:cNvPicPr/>
          <p:nvPr/>
        </p:nvPicPr>
        <p:blipFill>
          <a:blip r:embed="rId2"/>
          <a:stretch/>
        </p:blipFill>
        <p:spPr>
          <a:xfrm>
            <a:off x="5364000" y="857160"/>
            <a:ext cx="3637080" cy="5775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 advTm="10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akiko suzuki.jpg"/>
          <p:cNvPicPr/>
          <p:nvPr/>
        </p:nvPicPr>
        <p:blipFill>
          <a:blip r:embed="rId1"/>
          <a:stretch/>
        </p:blipFill>
        <p:spPr>
          <a:xfrm>
            <a:off x="3863880" y="765000"/>
            <a:ext cx="4308480" cy="6093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Century Gothic"/>
              </a:rPr>
              <a:t>Akiko Suzuki</a:t>
            </a: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262" name="TextBox 3"/>
          <p:cNvSpPr/>
          <p:nvPr/>
        </p:nvSpPr>
        <p:spPr>
          <a:xfrm>
            <a:off x="468360" y="476280"/>
            <a:ext cx="48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edaliata cu Argin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ampionatul celor 4 Continent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Korea de Sud, 2010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63" name="Picture 6" descr="Akiko+Suzuki+ISU+Grand+Prix+Figure+Skating+_68ajQU9-2sl.jpg"/>
          <p:cNvPicPr/>
          <p:nvPr/>
        </p:nvPicPr>
        <p:blipFill>
          <a:blip r:embed="rId2"/>
          <a:stretch/>
        </p:blipFill>
        <p:spPr>
          <a:xfrm>
            <a:off x="539640" y="2317680"/>
            <a:ext cx="2886120" cy="4111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 advTm="10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8" descr="Japan+Figure+Skating+Championship+Day+2+bSTJFTtOpRtl.jpg"/>
          <p:cNvPicPr/>
          <p:nvPr/>
        </p:nvPicPr>
        <p:blipFill>
          <a:blip r:embed="rId1"/>
          <a:stretch/>
        </p:blipFill>
        <p:spPr>
          <a:xfrm>
            <a:off x="108000" y="2997360"/>
            <a:ext cx="2558880" cy="3744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Japan+Figure+Skating+Championship+Day+2+LRT4Kj_e-81l.jpg"/>
          <p:cNvPicPr/>
          <p:nvPr/>
        </p:nvPicPr>
        <p:blipFill>
          <a:blip r:embed="rId2"/>
          <a:stretch/>
        </p:blipFill>
        <p:spPr>
          <a:xfrm>
            <a:off x="4930920" y="765000"/>
            <a:ext cx="4213080" cy="568836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Century Gothic"/>
              </a:rPr>
              <a:t>Yukari Nakano</a:t>
            </a: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267" name="TextBox 3"/>
          <p:cNvSpPr/>
          <p:nvPr/>
        </p:nvSpPr>
        <p:spPr>
          <a:xfrm>
            <a:off x="900000" y="54936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edaliata cu Argin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ampionatul celor 4 Continent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USA, 2006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68" name="Picture 4" descr="2008+Skate+America+Day+3+hlcRmg8EiJ8l.jpg"/>
          <p:cNvPicPr/>
          <p:nvPr/>
        </p:nvPicPr>
        <p:blipFill>
          <a:blip r:embed="rId3"/>
          <a:stretch/>
        </p:blipFill>
        <p:spPr>
          <a:xfrm>
            <a:off x="2843280" y="2060640"/>
            <a:ext cx="1598400" cy="2374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6" descr="Fumie+Suguri+Trophee+Eric+Bompard+ISU+Grand+SK1lTXhkGAQl.jpg"/>
          <p:cNvPicPr/>
          <p:nvPr/>
        </p:nvPicPr>
        <p:blipFill>
          <a:blip r:embed="rId1"/>
          <a:stretch/>
        </p:blipFill>
        <p:spPr>
          <a:xfrm>
            <a:off x="4643280" y="677880"/>
            <a:ext cx="4251600" cy="6180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Century Gothic"/>
              </a:rPr>
              <a:t>Fumie Suguri</a:t>
            </a: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271" name="TextBox 4"/>
          <p:cNvSpPr/>
          <p:nvPr/>
        </p:nvSpPr>
        <p:spPr>
          <a:xfrm>
            <a:off x="468360" y="620640"/>
            <a:ext cx="48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edaliata cu Argin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ampionatul Mondial Calgary, 2006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72" name="Picture 5" descr="Fumie+Suguri+Trophee+Eric+Bompard+ISU+Grand+Csqx0auzhbPl.jpg"/>
          <p:cNvPicPr/>
          <p:nvPr/>
        </p:nvPicPr>
        <p:blipFill>
          <a:blip r:embed="rId2"/>
          <a:stretch/>
        </p:blipFill>
        <p:spPr>
          <a:xfrm>
            <a:off x="250920" y="2924280"/>
            <a:ext cx="4195800" cy="29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 advTm="10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Century Gothic"/>
              </a:rPr>
              <a:t>Cathy si Chris Reed</a:t>
            </a:r>
            <a:endParaRPr b="0" lang="en-US" sz="3600" spc="-1" strike="noStrike">
              <a:solidFill>
                <a:srgbClr val="323232"/>
              </a:solidFill>
              <a:latin typeface="Century Gothic"/>
            </a:endParaRPr>
          </a:p>
        </p:txBody>
      </p:sp>
      <p:pic>
        <p:nvPicPr>
          <p:cNvPr id="274" name="Picture 3" descr="2011+World+Figure+Skating+Championships+Day+jY6v5xlJAWel.jpg"/>
          <p:cNvPicPr/>
          <p:nvPr/>
        </p:nvPicPr>
        <p:blipFill>
          <a:blip r:embed="rId1"/>
          <a:stretch/>
        </p:blipFill>
        <p:spPr>
          <a:xfrm>
            <a:off x="539640" y="2205000"/>
            <a:ext cx="4392720" cy="4059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75" name="Picture 6" descr="Cathy+Reed+Japan+Figure+Skating+Championships+T4gWfhHL2DYl.jpg"/>
          <p:cNvPicPr/>
          <p:nvPr/>
        </p:nvPicPr>
        <p:blipFill>
          <a:blip r:embed="rId2"/>
          <a:stretch/>
        </p:blipFill>
        <p:spPr>
          <a:xfrm>
            <a:off x="5219640" y="1481040"/>
            <a:ext cx="3600360" cy="4849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6" name="TextBox 8"/>
          <p:cNvSpPr/>
          <p:nvPr/>
        </p:nvSpPr>
        <p:spPr>
          <a:xfrm>
            <a:off x="539640" y="549360"/>
            <a:ext cx="46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edaliati cu Aur la CM de Juniori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ebut la competia seniorilor -  Locul 13,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ampionatul Mondial Moscova, 2011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 advTm="10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507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entury Gothic"/>
              </a:rPr>
              <a:t>Ace</a:t>
            </a:r>
            <a:r>
              <a:rPr b="0" lang="ro-RO" sz="3200" spc="-1" strike="noStrike">
                <a:solidFill>
                  <a:srgbClr val="323232"/>
                </a:solidFill>
                <a:latin typeface="Century Gothic"/>
              </a:rPr>
              <a:t>ş</a:t>
            </a:r>
            <a:r>
              <a:rPr b="0" lang="en-US" sz="3200" spc="-1" strike="noStrike">
                <a:solidFill>
                  <a:srgbClr val="323232"/>
                </a:solidFill>
                <a:latin typeface="Century Gothic"/>
              </a:rPr>
              <a:t>tia sunt doar o parte dintre arti</a:t>
            </a:r>
            <a:r>
              <a:rPr b="0" lang="ro-RO" sz="3200" spc="-1" strike="noStrike">
                <a:solidFill>
                  <a:srgbClr val="323232"/>
                </a:solidFill>
                <a:latin typeface="Century Gothic"/>
              </a:rPr>
              <a:t>ş</a:t>
            </a:r>
            <a:r>
              <a:rPr b="0" lang="en-US" sz="3200" spc="-1" strike="noStrike">
                <a:solidFill>
                  <a:srgbClr val="323232"/>
                </a:solidFill>
                <a:latin typeface="Century Gothic"/>
              </a:rPr>
              <a:t>tii ghe</a:t>
            </a:r>
            <a:r>
              <a:rPr b="0" lang="ro-RO" sz="3200" spc="-1" strike="noStrike">
                <a:solidFill>
                  <a:srgbClr val="323232"/>
                </a:solidFill>
                <a:latin typeface="Century Gothic"/>
              </a:rPr>
              <a:t>ţ</a:t>
            </a:r>
            <a:r>
              <a:rPr b="0" lang="en-US" sz="3200" spc="-1" strike="noStrike">
                <a:solidFill>
                  <a:srgbClr val="323232"/>
                </a:solidFill>
                <a:latin typeface="Century Gothic"/>
              </a:rPr>
              <a:t>ii care </a:t>
            </a:r>
            <a:r>
              <a:rPr b="0" lang="ro-RO" sz="3200" spc="-1" strike="noStrike">
                <a:solidFill>
                  <a:srgbClr val="323232"/>
                </a:solidFill>
                <a:latin typeface="Century Gothic"/>
              </a:rPr>
              <a:t>îş</a:t>
            </a:r>
            <a:r>
              <a:rPr b="0" lang="en-US" sz="3200" spc="-1" strike="noStrike">
                <a:solidFill>
                  <a:srgbClr val="323232"/>
                </a:solidFill>
                <a:latin typeface="Century Gothic"/>
              </a:rPr>
              <a:t>i dedic</a:t>
            </a:r>
            <a:r>
              <a:rPr b="0" lang="ro-RO" sz="3200" spc="-1" strike="noStrike">
                <a:solidFill>
                  <a:srgbClr val="323232"/>
                </a:solidFill>
                <a:latin typeface="Century Gothic"/>
              </a:rPr>
              <a:t>ă</a:t>
            </a:r>
            <a:r>
              <a:rPr b="0" lang="en-US" sz="3200" spc="-1" strike="noStrike">
                <a:solidFill>
                  <a:srgbClr val="323232"/>
                </a:solidFill>
                <a:latin typeface="Century Gothic"/>
              </a:rPr>
              <a:t> talentul </a:t>
            </a:r>
            <a:r>
              <a:rPr b="0" lang="ro-RO" sz="3200" spc="-1" strike="noStrike">
                <a:solidFill>
                  <a:srgbClr val="323232"/>
                </a:solidFill>
                <a:latin typeface="Century Gothic"/>
              </a:rPr>
              <a:t>ş</a:t>
            </a:r>
            <a:r>
              <a:rPr b="0" lang="en-US" sz="3200" spc="-1" strike="noStrike">
                <a:solidFill>
                  <a:srgbClr val="323232"/>
                </a:solidFill>
                <a:latin typeface="Century Gothic"/>
              </a:rPr>
              <a:t>i munca </a:t>
            </a:r>
            <a:r>
              <a:rPr b="0" lang="ro-RO" sz="3200" spc="-1" strike="noStrike">
                <a:solidFill>
                  <a:srgbClr val="323232"/>
                </a:solidFill>
                <a:latin typeface="Century Gothic"/>
              </a:rPr>
              <a:t>ţă</a:t>
            </a:r>
            <a:r>
              <a:rPr b="0" lang="en-US" sz="3200" spc="-1" strike="noStrike">
                <a:solidFill>
                  <a:srgbClr val="323232"/>
                </a:solidFill>
                <a:latin typeface="Century Gothic"/>
              </a:rPr>
              <a:t>rii lor: </a:t>
            </a:r>
            <a:r>
              <a:rPr b="0" lang="en-US" sz="3200" spc="-1" strike="noStrike">
                <a:solidFill>
                  <a:srgbClr val="d96b77"/>
                </a:solidFill>
                <a:latin typeface="Century Gothic"/>
              </a:rPr>
              <a:t>Japonia</a:t>
            </a:r>
            <a:endParaRPr b="0" lang="en-US" sz="3200" spc="-1" strike="noStrike">
              <a:solidFill>
                <a:srgbClr val="323232"/>
              </a:solidFill>
              <a:latin typeface="Century Gothic"/>
            </a:endParaRPr>
          </a:p>
        </p:txBody>
      </p:sp>
      <p:pic>
        <p:nvPicPr>
          <p:cNvPr id="278" name="Picture 2" descr="http://1.bp.blogspot.com/_5lMqMcQkP4s/THT-SFp6PlI/AAAAAAAAABA/vPsVfAdHrz8/s1600/japonia.gif"/>
          <p:cNvPicPr/>
          <p:nvPr/>
        </p:nvPicPr>
        <p:blipFill>
          <a:blip r:embed="rId1"/>
          <a:stretch/>
        </p:blipFill>
        <p:spPr>
          <a:xfrm>
            <a:off x="2050920" y="2565360"/>
            <a:ext cx="5065920" cy="3384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79" name="TextBox 4"/>
          <p:cNvSpPr/>
          <p:nvPr/>
        </p:nvSpPr>
        <p:spPr>
          <a:xfrm>
            <a:off x="1979640" y="6237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V</a:t>
            </a:r>
            <a:r>
              <a:rPr b="0" lang="ro-RO" sz="1800" spc="-1" strike="noStrike">
                <a:solidFill>
                  <a:srgbClr val="000000"/>
                </a:solidFill>
                <a:latin typeface="Century Gothic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mul</a:t>
            </a:r>
            <a:r>
              <a:rPr b="0" lang="ro-RO" sz="1800" spc="-1" strike="noStrike">
                <a:solidFill>
                  <a:srgbClr val="000000"/>
                </a:solidFill>
                <a:latin typeface="Century Gothic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umesc pentru aten</a:t>
            </a:r>
            <a:r>
              <a:rPr b="0" lang="ro-RO" sz="1800" spc="-1" strike="noStrike">
                <a:solidFill>
                  <a:srgbClr val="000000"/>
                </a:solidFill>
                <a:latin typeface="Century Gothic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ie!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 advTm="10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Title 1" descr=""/>
          <p:cNvPicPr/>
          <p:nvPr/>
        </p:nvPicPr>
        <p:blipFill>
          <a:blip r:embed="rId1"/>
          <a:stretch/>
        </p:blipFill>
        <p:spPr>
          <a:xfrm>
            <a:off x="171360" y="1122480"/>
            <a:ext cx="8777520" cy="1608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http://1.bp.blogspot.com/_5lMqMcQkP4s/THT-SFp6PlI/AAAAAAAAABA/vPsVfAdHrz8/s1600/japonia.gif"/>
          <p:cNvPicPr/>
          <p:nvPr/>
        </p:nvPicPr>
        <p:blipFill>
          <a:blip r:embed="rId2"/>
          <a:stretch/>
        </p:blipFill>
        <p:spPr>
          <a:xfrm>
            <a:off x="900000" y="2852640"/>
            <a:ext cx="5064120" cy="3384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19" name="TextBox 4"/>
          <p:cNvSpPr/>
          <p:nvPr/>
        </p:nvSpPr>
        <p:spPr>
          <a:xfrm>
            <a:off x="468360" y="83664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Performanta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la superlativ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 advTm="10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entury Gothic"/>
              </a:rPr>
              <a:t>Campionatul National al Japoniei 2011</a:t>
            </a:r>
            <a:endParaRPr b="0" lang="en-US" sz="3200" spc="-1" strike="noStrike">
              <a:solidFill>
                <a:srgbClr val="323232"/>
              </a:solidFill>
              <a:latin typeface="Century Gothic"/>
            </a:endParaRPr>
          </a:p>
        </p:txBody>
      </p:sp>
      <p:pic>
        <p:nvPicPr>
          <p:cNvPr id="221" name="Content Placeholder 3" descr="Nobunari+Oda+Japan+Figure+Skating+Championships+5W34oBFVP4Ol.jpg"/>
          <p:cNvPicPr/>
          <p:nvPr/>
        </p:nvPicPr>
        <p:blipFill>
          <a:blip r:embed="rId1"/>
          <a:stretch/>
        </p:blipFill>
        <p:spPr>
          <a:xfrm>
            <a:off x="1596960" y="2133720"/>
            <a:ext cx="5781600" cy="431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22" name="TextBox 6"/>
          <p:cNvSpPr/>
          <p:nvPr/>
        </p:nvSpPr>
        <p:spPr>
          <a:xfrm>
            <a:off x="468360" y="69228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oar 3 dintre cei foarte buni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 advTm="10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4" descr="Daisuke+Takahashi+ISU+World+Figure+Skating+R3HcLQfV56Ql.jpg"/>
          <p:cNvPicPr/>
          <p:nvPr/>
        </p:nvPicPr>
        <p:blipFill>
          <a:blip r:embed="rId1"/>
          <a:stretch/>
        </p:blipFill>
        <p:spPr>
          <a:xfrm>
            <a:off x="1258920" y="1700280"/>
            <a:ext cx="4183200" cy="4686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6" descr="4401334870_ee3d81d5fe.jpg"/>
          <p:cNvPicPr/>
          <p:nvPr/>
        </p:nvPicPr>
        <p:blipFill>
          <a:blip r:embed="rId2"/>
          <a:stretch/>
        </p:blipFill>
        <p:spPr>
          <a:xfrm>
            <a:off x="5508720" y="3125880"/>
            <a:ext cx="3166920" cy="37321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Century Gothic"/>
              </a:rPr>
              <a:t>Daisuke Takahashi</a:t>
            </a: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pic>
        <p:nvPicPr>
          <p:cNvPr id="226" name="Picture 11" descr="Daisuke+Takahashi+Stars+Ice+2010+0nk4hskKFLdl.jpg"/>
          <p:cNvPicPr/>
          <p:nvPr/>
        </p:nvPicPr>
        <p:blipFill>
          <a:blip r:embed="rId3"/>
          <a:stretch/>
        </p:blipFill>
        <p:spPr>
          <a:xfrm>
            <a:off x="5435640" y="692280"/>
            <a:ext cx="3395520" cy="241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27" name="Picture 18" descr="Daisuke+Takahashi+ISU+World+Figure+Skating+AGdlWI9qH8gl.jpg"/>
          <p:cNvPicPr/>
          <p:nvPr/>
        </p:nvPicPr>
        <p:blipFill>
          <a:blip r:embed="rId4"/>
          <a:stretch/>
        </p:blipFill>
        <p:spPr>
          <a:xfrm>
            <a:off x="0" y="3871800"/>
            <a:ext cx="2490840" cy="2986200"/>
          </a:xfrm>
          <a:prstGeom prst="rect">
            <a:avLst/>
          </a:prstGeom>
          <a:ln w="0">
            <a:noFill/>
          </a:ln>
        </p:spPr>
      </p:pic>
      <p:sp>
        <p:nvSpPr>
          <p:cNvPr id="228" name="TextBox 19"/>
          <p:cNvSpPr/>
          <p:nvPr/>
        </p:nvSpPr>
        <p:spPr>
          <a:xfrm>
            <a:off x="539640" y="69228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edaliat cu Bronz la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Jocurile Olimpice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Vancouver, 2010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 advTm="10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7" descr="Nobunari+Oda+2011+World+Figure+Skating+Championships+TCpH1P3e0Jfl.jpg"/>
          <p:cNvPicPr/>
          <p:nvPr/>
        </p:nvPicPr>
        <p:blipFill>
          <a:blip r:embed="rId1"/>
          <a:stretch/>
        </p:blipFill>
        <p:spPr>
          <a:xfrm>
            <a:off x="2908440" y="2054160"/>
            <a:ext cx="2151000" cy="30844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Century Gothic"/>
              </a:rPr>
              <a:t>Nobunari Oda</a:t>
            </a: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pic>
        <p:nvPicPr>
          <p:cNvPr id="231" name="Picture 6" descr="7.jpg"/>
          <p:cNvPicPr/>
          <p:nvPr/>
        </p:nvPicPr>
        <p:blipFill>
          <a:blip r:embed="rId2"/>
          <a:stretch/>
        </p:blipFill>
        <p:spPr>
          <a:xfrm>
            <a:off x="4897440" y="2060640"/>
            <a:ext cx="3927600" cy="4475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32" name="Picture 9" descr="nobunari-oda-2009-12-4-17-41-5.jpg"/>
          <p:cNvPicPr/>
          <p:nvPr/>
        </p:nvPicPr>
        <p:blipFill>
          <a:blip r:embed="rId3"/>
          <a:stretch/>
        </p:blipFill>
        <p:spPr>
          <a:xfrm>
            <a:off x="103320" y="3638520"/>
            <a:ext cx="3030480" cy="25304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0"/>
          <p:cNvSpPr/>
          <p:nvPr/>
        </p:nvSpPr>
        <p:spPr>
          <a:xfrm>
            <a:off x="539640" y="69228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edaliat cu Argint pentru programul scurt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ampionatul Mondial Moscova, 2011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 advTm="10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Takahiko+Kozuka+ISU+Four+Continents+Figure+e3I2G-tj0pgl.jpg"/>
          <p:cNvPicPr/>
          <p:nvPr/>
        </p:nvPicPr>
        <p:blipFill>
          <a:blip r:embed="rId1"/>
          <a:stretch/>
        </p:blipFill>
        <p:spPr>
          <a:xfrm>
            <a:off x="4781520" y="692280"/>
            <a:ext cx="4111560" cy="6165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Takahiko+Kozuka+ISU+Grand+Prix+Figure+Skating+6l8HTkXoIKil.jpg"/>
          <p:cNvPicPr/>
          <p:nvPr/>
        </p:nvPicPr>
        <p:blipFill>
          <a:blip r:embed="rId2"/>
          <a:stretch/>
        </p:blipFill>
        <p:spPr>
          <a:xfrm>
            <a:off x="468360" y="1916280"/>
            <a:ext cx="3672000" cy="244944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Century Gothic"/>
              </a:rPr>
              <a:t>Takahiko Kozuka</a:t>
            </a: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539640" y="692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edaliat cu Argin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ampionatul Mondial Moscova 2011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38" name="Picture 7" descr="Takahiko+Kozuka+ISU+Grand+Prix+Figure+Skating+Bd87GEF7KP0l.jpg"/>
          <p:cNvPicPr/>
          <p:nvPr/>
        </p:nvPicPr>
        <p:blipFill>
          <a:blip r:embed="rId3"/>
          <a:stretch/>
        </p:blipFill>
        <p:spPr>
          <a:xfrm>
            <a:off x="468360" y="4221000"/>
            <a:ext cx="3527280" cy="23529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entury Gothic"/>
              </a:rPr>
              <a:t>Campionatul National al Japoniei 2011</a:t>
            </a:r>
            <a:endParaRPr b="0" lang="en-US" sz="32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240" name="TextBox 3"/>
          <p:cNvSpPr/>
          <p:nvPr/>
        </p:nvSpPr>
        <p:spPr>
          <a:xfrm>
            <a:off x="468360" y="692280"/>
            <a:ext cx="48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oar 3 dintre cele foarte bun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41" name="Picture 4" descr="Kanako+Murakami+Japan+Figure+Skating+Championships+R1yG8ZaF2K3l.jpg"/>
          <p:cNvPicPr/>
          <p:nvPr/>
        </p:nvPicPr>
        <p:blipFill>
          <a:blip r:embed="rId1"/>
          <a:stretch/>
        </p:blipFill>
        <p:spPr>
          <a:xfrm>
            <a:off x="1476360" y="2349360"/>
            <a:ext cx="6004080" cy="400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 advTm="10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13" descr="Miki+Ando+Japan+Figure+Skating+Championships+v7MZeqZbVTel.jpg"/>
          <p:cNvPicPr/>
          <p:nvPr/>
        </p:nvPicPr>
        <p:blipFill>
          <a:blip r:embed="rId1"/>
          <a:stretch/>
        </p:blipFill>
        <p:spPr>
          <a:xfrm>
            <a:off x="3995640" y="3213000"/>
            <a:ext cx="3532320" cy="330228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Century Gothic"/>
              </a:rPr>
              <a:t>Miki Ando</a:t>
            </a: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539640" y="692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edaliata cu Aur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ampionatul Mondial Moscova, 2011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45" name="Picture 5" descr="2011+World+Figure+Skating+Championships+Day+DpNkOtkTm0tl.jpg"/>
          <p:cNvPicPr/>
          <p:nvPr/>
        </p:nvPicPr>
        <p:blipFill>
          <a:blip r:embed="rId2"/>
          <a:stretch/>
        </p:blipFill>
        <p:spPr>
          <a:xfrm>
            <a:off x="539640" y="2133720"/>
            <a:ext cx="3149640" cy="446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46" name="Picture 8" descr="Miki+Ando+Japan+Figure+Skating+Championships+6zhjt-uYo3Ol.jpg"/>
          <p:cNvPicPr/>
          <p:nvPr/>
        </p:nvPicPr>
        <p:blipFill>
          <a:blip r:embed="rId3"/>
          <a:stretch/>
        </p:blipFill>
        <p:spPr>
          <a:xfrm>
            <a:off x="5435640" y="692280"/>
            <a:ext cx="3241800" cy="2671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 advTm="10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6" descr="Mao+Asada+Japan+Figure+Skating+Championships+Sf1ihUNHWd6l.jpg"/>
          <p:cNvPicPr/>
          <p:nvPr/>
        </p:nvPicPr>
        <p:blipFill>
          <a:blip r:embed="rId1"/>
          <a:stretch/>
        </p:blipFill>
        <p:spPr>
          <a:xfrm>
            <a:off x="5940360" y="2401920"/>
            <a:ext cx="3203640" cy="4456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Mao+Asada+ISU+Four+Continents+Figure+Skating+_iR1m-0BjY6l.jpg"/>
          <p:cNvPicPr/>
          <p:nvPr/>
        </p:nvPicPr>
        <p:blipFill>
          <a:blip r:embed="rId2"/>
          <a:stretch/>
        </p:blipFill>
        <p:spPr>
          <a:xfrm>
            <a:off x="2771640" y="880920"/>
            <a:ext cx="3984840" cy="5977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Century Gothic"/>
              </a:rPr>
              <a:t>Mao Asada</a:t>
            </a:r>
            <a:endParaRPr b="0" lang="en-US" sz="40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539640" y="765000"/>
            <a:ext cx="48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edaliata cu Aur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ampionatul Mondial Torino, 2010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51" name="Picture 5" descr="Mao+Asada+Japan+Figure+Skating+Championships+sb2z62BQe8cl.jpg"/>
          <p:cNvPicPr/>
          <p:nvPr/>
        </p:nvPicPr>
        <p:blipFill>
          <a:blip r:embed="rId3"/>
          <a:stretch/>
        </p:blipFill>
        <p:spPr>
          <a:xfrm>
            <a:off x="0" y="2209680"/>
            <a:ext cx="3270240" cy="46483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09:07:23Z</dcterms:created>
  <dc:creator>Corporate Edition</dc:creator>
  <dc:description/>
  <dc:language>en-US</dc:language>
  <cp:lastModifiedBy>Corporate Edition</cp:lastModifiedBy>
  <dcterms:modified xsi:type="dcterms:W3CDTF">2011-05-04T07:22:45Z</dcterms:modified>
  <cp:revision>78</cp:revision>
  <dc:subject/>
  <dc:title>Japonia – Ţara Soarelui Răsare</dc:title>
</cp:coreProperties>
</file>